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750-9E36-4DBF-9D7E-16459C3B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E95C-B58A-48F9-B6D5-19D0DA94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5A3-8D32-4A93-AC48-1C75595A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013-EF0F-4FB3-B229-A9B31BD3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CCC-949E-4FFD-B0E4-424DFF69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393-BEED-4BB6-98BC-F23CFEDF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1A2-0FB8-493A-9D53-48E8E17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1FF-CB80-486B-B05D-93FF04D5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405-FD3A-4A32-BC36-A2E70012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BD5-05F9-4A41-A91F-CDEF8F28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636-56FC-4D33-A440-513DE07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B77-B43D-4422-B9AC-1BB2DFB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579-72AA-4D9F-A8EA-8EC1B64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26D-FE68-4CD9-9CDC-11A2EA9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75FC-C394-490E-B1ED-244370DA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都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一条狗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擦粉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回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16T17:34:52Z</dcterms:modified>
  <cp:revision>4</cp:revision>
  <dc:subject/>
  <dc:title>The Dog</dc:title>
</cp:coreProperties>
</file>